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2B5-CF4C-4585-A101-096395BB9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4ED2-D8D2-49C2-A24C-F45755143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2C77-8811-4D27-9D8F-1FB925F91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ent web search on the phrase, “project-based learning”, returned a list of over a half-million web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information out there – some of it probably confli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time to carry out a full-scale investigation of P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centrate on the general notions of, “What does it look like?” and “Why use it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A2FA-2545-4062-A56E-3B21B1995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5D9F-4CC4-45E8-A494-1F4B79B40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haracteristics are from the ISTE-published book, Project-based Learning Using Inform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similar to other lists you’ve seen, but this list addresses the points of view of the two major participants in PBL – the teacher and the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haracteristics form the basis of the rubric we will use to analyze a few examples of Project-Based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6441-F0DF-406D-9AF1-8FE3E2703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A76E-A7AA-40CC-B8A1-73CF0D9F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78B-AB27-4D65-9951-99FDCF6A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andout, “Project Ide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112A-1231-4DFA-8499-15B8231B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Project-Based Learning is supported by these areas of education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9EB7-B52E-42E2-9F1C-57E08BEEA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erature available on PBL includes many non-research-based, “testimonial” articles by tea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ive benefits are widely reported by teachers who use PBL with their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C87-09EE-42C6-B033-7FAE11B2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A95-B6CF-4A4E-927A-89E777D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9FD-C8CF-4783-A06D-36B00A70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81A-08C8-418B-B7CD-1340D212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F9B-FB38-427A-9BB5-01556573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075-9244-40B9-895E-344773B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58C-1EB1-4B95-96A7-A4182CD5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173-D45A-4A98-93CB-4992EE47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411-73FC-4FD8-AC08-9994C93A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670-5AC6-4E35-B686-729C2E28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CF1-5801-4597-A13C-EC2F31C3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DB2-BB99-4461-8720-75412D38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82D3-B0A8-4543-81B1-E8B7DA5E7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-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Project-Based Lea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1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4800600" cy="1003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3504960" cy="658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4" name="AutoShape 13"/>
          <p:cNvSpPr/>
          <p:nvPr/>
        </p:nvSpPr>
        <p:spPr>
          <a:xfrm>
            <a:off x="2286000" y="1981080"/>
            <a:ext cx="609480" cy="685800"/>
          </a:xfrm>
          <a:prstGeom prst="up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5867280" y="2362320"/>
            <a:ext cx="609840" cy="1676160"/>
          </a:xfrm>
          <a:prstGeom prst="upArrow">
            <a:avLst>
              <a:gd name="adj1" fmla="val 50000"/>
              <a:gd name="adj2" fmla="val 68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E - Project-based Learning Using Inform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ent 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 Centered, Intrinsically Motiv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and Coopera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and Continu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ly Engaged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, Presentation, 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, with a Focus on Higher-Ord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acher 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 Content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Educatio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ed in Constructivism, but Uses Multiple Methods of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Transfer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s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B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 Centered, Intrinsically Motiv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and Cooper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and Continu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ly Engage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, Presentation, 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ing, with a Focus on Higher-Orde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BL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Content and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Facili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Education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ed in Constructivism, but Uses Multiple Methods of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s Transfer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as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 - Designing Effective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/Rol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an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collabo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E - Project-based Learning Using Inform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PBL?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by These Areas of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olving and Collaborative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E - Project-based Learning Using Inform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PBL?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cdotal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Problem-Solv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Researc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Resource-Management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4:56Z</dcterms:created>
  <dc:creator>david g morrow</dc:creator>
  <dc:description/>
  <dc:language>en-US</dc:language>
  <cp:lastModifiedBy>David G. Morrow</cp:lastModifiedBy>
  <dcterms:modified xsi:type="dcterms:W3CDTF">2008-10-13T22:33:36Z</dcterms:modified>
  <cp:revision>28</cp:revision>
  <dc:subject/>
  <dc:title>Slide 1</dc:title>
</cp:coreProperties>
</file>